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3640" y="688680"/>
            <a:ext cx="45907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4E49-4D7D-4F0F-9831-D45A9FCC5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incentive structure” to future basis for incentive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dded thi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incentive structure” to VBP design consid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incentive structure” to future basis for incentive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bullet #1 from “what should be the basis for receiving an incentive” to options for the basis of incentive payments – instead of what the bullet was changed to we may want to ask a differe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42B5-CA39-4B6F-9980-0545A7C78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E724A-A204-44D4-8933-9CB48BDAD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4523-5EDB-426B-A64E-EB7785C21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1BFDE-19D3-41E4-866C-591AF4B6BE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52929-CF72-4F5B-9C7E-5987825C3E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074E-E9A5-4A3D-A6C8-ADE3611B9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A1851-D51F-4B04-B614-26429ECF4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C057A-4D9D-436E-8CD7-AFC80CECA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9D2FF-1A92-4A30-BDC4-3BD84AC58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A2FB6-BFC7-4183-B09B-DC8F3047A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8928-57E8-47F9-9A33-463A38856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C403-280B-4DD8-9D26-EE8EAFB72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A34D-93A1-4C9D-AB38-E73B93581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2514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rrence Ka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52388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Incentiv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648320"/>
            <a:ext cx="525780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Basis for Incentive Payment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Medicare Physician Fee Schedule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d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patient or outpatient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ther facto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254A5-131B-4FE3-9C9A-0BADFB2C24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actors Influencing Basis of Incentive  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act on increasing value to Medicare and its benefici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erational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quity and other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ower volume professionals/clinics may have les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igher volume professionals/clinics may have more opportunities to receive incentive pay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on-compliant pat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appropriate incentives to increase vol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E373-9A28-4B5D-878A-469B9C6764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funding sources and payment models would be feasible and desir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large does the payment incentive need to b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type of incentive bonus payment is most effect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distribution of incentive payments best achieves the PVBP Plan goal and objective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should be the basis for receiving an incentive? Are there strategies that place particular types of professionals, such as rural professionals, at an advantage or disadvantag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the PVBP Plan base incentive payments on payments for all Medicare Physician Fee Schedule services, payments for measured services only, or other facto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22BB-F228-41C0-B03E-8529EC81F4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4F61-C1F4-4492-A8F1-F5E7EC95C5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 and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unding sources and payment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ype of incentive pa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payment thres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asis for incentiv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CA21-3AAC-4A87-A122-8D7F3E3FC1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ign incentives across providers and setting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ward both attainment and improvement to engage professionals at al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vide large enough incentives to encourage voluntary participation and dr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ake timely payments to maximize the effectiveness of the incen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85FE6-3134-4B89-9769-90ECA6565C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act on Medicare program and beneficiary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udget im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erational feasi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tributional con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C9E5-D249-4424-9DFE-A2B59D5F4E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unding Sources &amp; Payment Model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ithin Physician Fee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yond Physician Fee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8E97-AE26-4D72-9CD0-3712872078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Type of Incentive Paymen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-on to base pay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imilar to hospital pay-for-reporting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eriodic incentive pa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imilar to PQRI program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onus p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art of payment is withheld and placed in incentive payment p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2BD3-47E1-4AFD-A4E1-66C3F25450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distribution of incentives is best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chieve the goals of physician VBP Pla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vide consistency with the level of accountability that can be measur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84B6-8945-480F-8996-7FC2753F1F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arger incentives to smaller number of high performing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ternatively, smaller incentives to larger number of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inancial ris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041A-47E4-4448-A85D-7DBC9B6784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centive Payment Threshold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tions for incentive payment thres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bsolute performance threshol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lative thresholds or percentile rank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inimum performance thresh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mprovement in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 combination of appro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dvantages/disadvantages by type of profess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26A63-E315-42BB-AE95-8BED93F04B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0:06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4436370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1181294680</vt:r8>
  </property>
</Properties>
</file>